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5922-1538-48BD-A993-AA19BF4FE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noun-antecedent agreement (or should I say “disagreement”) is a pet peeve of mine. I can’t help myself: when I see it, I want to mark it, and I see it a lot on most freshmen’s papers.  My purpose here is to explain the error to you so that you can attempt to identify it and eliminate it from your own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3BA-AB1A-4DD4-9A19-D4C71A1A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9403-F01C-4207-8A49-476E1F07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9393-CE40-4D12-A662-09D08A0D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E64-C57C-4FC2-922C-0F5FFDFC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63B5-5E02-4EFD-9DC0-2C434245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350B-1A0B-42F2-BAB6-B545B2BDE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7993-B24C-4D83-9278-1256AA85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BE19-1E9A-4B6B-95DE-8A9F9AF2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F1E1-7C17-45A2-B530-E15ABE58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C41C-9CCA-4A72-95A1-01A3965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E89F-0636-413E-AC6F-62D1859E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0E5-BC20-4CDF-B571-C58E1AD3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B381-0D39-479D-9F94-6F37CA7C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1530-C3F9-49F2-A015-70784F07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E668-B6A3-42E5-81E7-D1F6C701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15B-BA4A-49EB-87F6-2A4D4445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CAF1-2311-429B-A6C1-BC7C1CFA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039-09DA-4287-AF50-8EC33A29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845-3296-4CAC-A4FC-D5368CB6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B51-D6E4-46DF-B0F9-43EDAE93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839-FE8E-4B1A-9904-D68AC9CE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669E-7B23-46B9-9423-CFBE258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0B8-2B88-427A-AC8B-79BEE4D7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808-D2B9-4FF7-AAF9-E716BCE2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8AED-4C23-4678-A292-4869374F83B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30A0-3065-417C-B5E4-263D9477AF8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owlet.letu.edu/grammarlinks/pronouns/pronoun1.html" TargetMode="External"/><Relationship Id="rId2" Type="http://schemas.openxmlformats.org/officeDocument/2006/relationships/hyperlink" Target="http://wwwnew.towson.edu/ows/exercisep-aagr.htm" TargetMode="External"/><Relationship Id="rId3" Type="http://schemas.openxmlformats.org/officeDocument/2006/relationships/hyperlink" Target="http://www.chompchomp.com/hotpotatoes/proagree03.htm" TargetMode="External"/><Relationship Id="rId4" Type="http://schemas.openxmlformats.org/officeDocument/2006/relationships/hyperlink" Target="http://www.odessa.edu/dept/english/dsmith/pronounantecdent.rtf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odessa.edu/dept/english/dsmith/sopronouns.AVI" TargetMode="External"/><Relationship Id="rId5" Type="http://schemas.openxmlformats.org/officeDocument/2006/relationships/hyperlink" Target="http://www.odessa.edu/dept/english/dsmith/schoolhouserockpronouns.AVI" TargetMode="External"/><Relationship Id="rId6" Type="http://schemas.openxmlformats.org/officeDocument/2006/relationships/hyperlink" Target="http://www.odessa.edu/dept/english/dsmith/Pronouns.AVI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odessa.edu/dept/english/dsmith/disagreement.AVI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noun-Antecedent Agreemen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’ll generally run into problems in two case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antecedent is 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definite pronoun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the antecedent is 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ingular noun that could refer to a man or a wo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finite Pronouns: They’re usually singul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828800"/>
          <a:ext cx="7696080" cy="366084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i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ver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i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bo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80880" y="5410080"/>
            <a:ext cx="3808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cept when they’re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85800" y="1828800"/>
          <a:ext cx="7695720" cy="3657600"/>
        </p:xfrm>
        <a:graphic>
          <a:graphicData uri="http://schemas.openxmlformats.org/drawingml/2006/table">
            <a:tbl>
              <a:tblPr/>
              <a:tblGrid>
                <a:gridCol w="2565360"/>
                <a:gridCol w="2565000"/>
                <a:gridCol w="256536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o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334120"/>
            <a:ext cx="1981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r when they’re singular or plural, depending on contex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685800" y="1828800"/>
          <a:ext cx="7696080" cy="466416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22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ga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l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kid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All” refers to “gas” in the first sentence and “kids” in the second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y</a:t>
                      </a:r>
                      <a:br>
                        <a:rPr sz="28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n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jewelry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yours for the tak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n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my cousin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ight for the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Any” refers to “jewelry” in the first sentence and “cousin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plo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i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revealed in act thre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our plan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a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ing towards breaking him out of ja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More” refers to “plot” in the first sentence and “plans” in the second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cake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gone when I got hom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u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mo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cookie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till the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Most” refers to “cake” in the first sentence and “cookie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material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covered in the test review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o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student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happy about tha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None” refers to “material in the first sentence and “student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fault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a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the teacher’s for being disorganiz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So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of the students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we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so angry they complained to her bo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“Some” refers to “fault” in the first sentence and “students” in the secon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exploding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543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715000" y="0"/>
            <a:ext cx="2362320" cy="1905120"/>
          </a:xfrm>
          <a:prstGeom prst="wedgeRoundRectCallout">
            <a:avLst>
              <a:gd name="adj1" fmla="val -57125"/>
              <a:gd name="adj2" fmla="val 8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rgh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ingular Nouns that Can Refer to a Man or a Woman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er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wn mind about prayer in schoo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ach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udents love and compas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ten, a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o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tients waiting for a ridiculously long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wrong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54766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ly, these errors occu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cause the writer is trying to avoid sexis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don’t know if the antecedent is male or female, it seems logical to use the pronoun “they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bunnies_sexism" descr=""/>
          <p:cNvPicPr/>
          <p:nvPr/>
        </p:nvPicPr>
        <p:blipFill>
          <a:blip r:embed="rId1"/>
          <a:stretch/>
        </p:blipFill>
        <p:spPr>
          <a:xfrm>
            <a:off x="1365120" y="2438280"/>
            <a:ext cx="2186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you can, just make the antecedent plur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rs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wn mind about prayer in schools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be able to make up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wn mind about prayer in schools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ac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s love and compassion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ach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show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tudents love and compassion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ten,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o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atients waiting for a ridiculously long time (incorrect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ten,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o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leav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tients waiting for a ridiculously long time (correc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Pronoun-Antecedent Agreement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ound antecedents are usually plural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Joey and Melissa think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kids are brillia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wo antecedents are joined by either/or, neither/nor, the pronoun agrees with the antecedent closest to it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Michael or his friends will b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eir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games to the party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ither his friends or Michael will bring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video games to the party. (This sentence is correct, but sounds illogical.  Word the sentence like the first example rather than the second)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pronoun agrees with the antecedent, not the object of the prepositional phrase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f the dogs needs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wn cra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eneral Pronoun-Antecedent Agreement Ru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ctive noun can be either singular or plural, depending on the contex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ok only two hours to reac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erdict. (Emphasizes the singularity of the jur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jur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ook only two hours to reach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thei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verdict. (Emphasizes the jury as a group of individual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sexis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“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o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 listen carefully 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h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tients.”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rather (1) making the pronoun and its antecedent plural, or (2) reword the sent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tors should listen carefully to their pati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ctors should listen carefully to patien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you need to understand about pronoun-antecedent agreement erro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 pronou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n anteced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’s a pronoun-antecedent agreement erro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ague Pronoun Refer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Mom wasn't sure if Jane had her make-up,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unclear if "her" refers to Mom or Jane. Whose make up is it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wasn’t sure if Jane had brought Mom’s make up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wasn’t sure if Jane had brought Jane’s make up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Had Jane brought her make up?" Mom wondere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m thought, "Has Jane brought my make up?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ronoun referen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: explains pronouns using a student’s different learning style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ronoun-Agreement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Pronoun-Agreement Exerc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Pronoun-Antecedent Rul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(RTF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a Pronou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ronoun is a word that takes the place of a noun or other prono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 subject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, you, he, she, it, we, the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n object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, you him, her it, us, the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can take the place of a possessive wor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y, mine, your, yours, his, hers, its, our, ours, their, thei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f you like silly videos, here are a couple defining pronoun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sopronouns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362320" cy="1761840"/>
          </a:xfrm>
          <a:prstGeom prst="rect">
            <a:avLst/>
          </a:prstGeom>
          <a:ln w="0">
            <a:noFill/>
          </a:ln>
        </p:spPr>
      </p:pic>
      <p:pic>
        <p:nvPicPr>
          <p:cNvPr id="166" name="schoolhouserock" descr=""/>
          <p:cNvPicPr/>
          <p:nvPr/>
        </p:nvPicPr>
        <p:blipFill>
          <a:blip r:embed="rId2"/>
          <a:stretch/>
        </p:blipFill>
        <p:spPr>
          <a:xfrm>
            <a:off x="5257800" y="2133720"/>
            <a:ext cx="2247840" cy="1904760"/>
          </a:xfrm>
          <a:prstGeom prst="rect">
            <a:avLst/>
          </a:prstGeom>
          <a:ln w="0">
            <a:noFill/>
          </a:ln>
        </p:spPr>
      </p:pic>
      <p:pic>
        <p:nvPicPr>
          <p:cNvPr id="167" name="us" descr=""/>
          <p:cNvPicPr/>
          <p:nvPr/>
        </p:nvPicPr>
        <p:blipFill>
          <a:blip r:embed="rId3"/>
          <a:stretch/>
        </p:blipFill>
        <p:spPr>
          <a:xfrm>
            <a:off x="3352680" y="4800600"/>
            <a:ext cx="1752840" cy="1308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43000" y="4191120"/>
            <a:ext cx="19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Sopro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4191120"/>
            <a:ext cx="1981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Rufus Xavier Sarsapa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6324480"/>
            <a:ext cx="1981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an antecede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that the pronoun repla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mione Granger threw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d onto the floo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her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ames “Hermione Granger”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Ron Weasley saw the wand drop, he pick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p and handed it to her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t”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names the “wand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Ron and Hermione went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i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fense Against the Dark Arts cl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heir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renames “Ron and Hermione”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 what is pronoun-antecedent disagreement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not this. 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nother silly video that you can skip if you want t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disagreement" descr=""/>
          <p:cNvPicPr/>
          <p:nvPr/>
        </p:nvPicPr>
        <p:blipFill>
          <a:blip r:embed="rId1"/>
          <a:stretch/>
        </p:blipFill>
        <p:spPr>
          <a:xfrm>
            <a:off x="4648320" y="2278080"/>
            <a:ext cx="3200400" cy="2389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648320" y="5257800"/>
            <a:ext cx="37335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Pronoun Dis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laimer: Strange Vio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cally, it’s this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pronouns and their antecedents need to agree in person and numb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in Pers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te to proofread my paper because proofreading is such a boring thing for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d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agreement in person--first person antecedent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, second person pronoun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"Why shoul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y literature?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on't get anything out of it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isagreement in number—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houldn’t study it because “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on’t get anything out of i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ree in Nu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ular antecedents get singular pronou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ssed his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ural antecedents get plural prono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oy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ssed their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a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the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2:46:22Z</dcterms:created>
  <dc:creator>ECISD</dc:creator>
  <dc:description/>
  <dc:language>en-US</dc:language>
  <cp:lastModifiedBy>Blackburn</cp:lastModifiedBy>
  <dcterms:modified xsi:type="dcterms:W3CDTF">2011-03-08T15:47:09Z</dcterms:modified>
  <cp:revision>12</cp:revision>
  <dc:subject/>
  <dc:title>Pronoun Antecedent Agreement</dc:title>
</cp:coreProperties>
</file>